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8.jpeg" ContentType="image/jpeg"/>
  <Override PartName="/ppt/media/laser.wav" ContentType="audio/x-wav"/>
  <Override PartName="/ppt/media/image4.jpeg" ContentType="image/jpeg"/>
  <Override PartName="/ppt/media/glass.wav" ContentType="audio/x-wav"/>
  <Override PartName="/ppt/media/carbrake.wav" ContentType="audio/x-wav"/>
  <Override PartName="/ppt/media/image3.jpeg" ContentType="image/jpeg"/>
  <Override PartName="/ppt/media/explode.wav" ContentType="audio/x-wav"/>
  <Override PartName="/ppt/media/camera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6E7-FEAD-483A-8955-22999A52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DD0-FF9C-443E-85B4-D3262F15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9DD-F862-4D7F-B77F-1413C351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408-0E77-4F5D-99C2-7DA59121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EE7-F0CF-4525-8B22-BBEA34C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DA4-F96A-477B-8C8F-3DB588C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219-AF98-4E37-BB87-05127BA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59E-1A04-407E-92DE-0FC8801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F0E-5A3E-4C20-AFD8-943AF1D1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27E-AAC1-418D-9012-60B99E30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287-D5E1-42DB-9E50-EC83E75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50F-DA56-4D4F-BC84-C061A2C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0C49-3798-4BE9-BC35-E1FD96DAD34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Opracowała: mgr Agnieszka Szaf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usimy znać również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ory chemicz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wstałych produktów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dczas tej rea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puśćmy, że użyjem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o reakcji kwasu chlorowodoroweg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solnego) HCl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zasady sodowej Na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eraz musimy wiedzieć, co powstan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ma powstać sól i wo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patr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woda"/>
          <p:cNvPicPr/>
          <p:nvPr/>
        </p:nvPicPr>
        <p:blipFill>
          <a:blip r:embed="rId1"/>
          <a:stretch/>
        </p:blipFill>
        <p:spPr>
          <a:xfrm>
            <a:off x="5486400" y="4267080"/>
            <a:ext cx="274320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ROPELKAgetty2"/>
          <p:cNvPicPr/>
          <p:nvPr/>
        </p:nvPicPr>
        <p:blipFill>
          <a:blip r:embed="rId2"/>
          <a:stretch/>
        </p:blipFill>
        <p:spPr>
          <a:xfrm>
            <a:off x="4038480" y="2133720"/>
            <a:ext cx="2235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lniczka"/>
          <p:cNvPicPr/>
          <p:nvPr/>
        </p:nvPicPr>
        <p:blipFill>
          <a:blip r:embed="rId3"/>
          <a:stretch/>
        </p:blipFill>
        <p:spPr>
          <a:xfrm>
            <a:off x="380880" y="2666880"/>
            <a:ext cx="3581640" cy="27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NaCl +H</a:t>
            </a:r>
            <a:r>
              <a:rPr b="0" lang="pl-PL" sz="4400" spc="-1" strike="noStrike" baseline="-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prawej i lewej stronie równania mamy tyle samo danych pierwiast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ównanie jest napisane popraw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nny przykła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tym równaniu po lewej stronie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jest jeden atom potasu, po prawej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ą dwa, więc po lewej stronie trze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rzed wzorem KOH wstawić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Teraz liczymy wodory po lewej stronie, są cztery a po prawej są dwa, więc musimy przed wzorem H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stawić też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etody otrzymywania s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est kilka metod otrzymywania soli, przybliżymy sobie jedną z n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Liczba innych pierwiastków zgadza się po obu stron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Teraz równanie jest </a:t>
            </a:r>
            <a:br>
              <a:rPr sz="4800"/>
            </a:br>
            <a:r>
              <a:rPr b="0" lang="pl-PL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pisane prawidłow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czy to nie jest pros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3886200" y="3124080"/>
          <a:ext cx="274464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274464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łego pisania równań chemicznyc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życzę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809880" y="3048120"/>
          <a:ext cx="459576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59576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2057400" y="160020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41907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reakcje kwas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 zasada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4760" y="22860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jedna z metod otrzymywania s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ólne równanie otrzymywania soli w reakcji zobojętniania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was + zasad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sól + w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amiętaj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by napisać poprawnie reakcję chemiczną musisz zna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ubstraty, które będą wchodziły w reakcj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, które powstaną podczas tej rea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d04924_"/>
          <p:cNvPicPr/>
          <p:nvPr/>
        </p:nvPicPr>
        <p:blipFill>
          <a:blip r:embed="rId1"/>
          <a:stretch/>
        </p:blipFill>
        <p:spPr>
          <a:xfrm>
            <a:off x="5638680" y="2209680"/>
            <a:ext cx="305136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napisaniu poprawnie równania reakcji musisz dobrać współczynniki stechiometrycz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czyli liczby, które znajdują się przed wzorami związków chemicznych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równan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o01038_"/>
          <p:cNvPicPr/>
          <p:nvPr/>
        </p:nvPicPr>
        <p:blipFill>
          <a:blip r:embed="rId1"/>
          <a:stretch/>
        </p:blipFill>
        <p:spPr>
          <a:xfrm>
            <a:off x="685800" y="2971800"/>
            <a:ext cx="2967120" cy="29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rzeba dokładnie policzyć atomy pierwiastków po prawej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po lewej stronie równania, </a:t>
            </a: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si być ich tyle samo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pamiętając, że środek równania chemicznego to strzałk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21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Jeżeli ma reagować kwas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 zasadą to musimy znać wzory tych substancji chemicz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6:48:05Z</dcterms:created>
  <dc:creator>KPCEN</dc:creator>
  <dc:description/>
  <dc:language>en-US</dc:language>
  <cp:lastModifiedBy>Aga</cp:lastModifiedBy>
  <dcterms:modified xsi:type="dcterms:W3CDTF">2014-08-11T20:11:12Z</dcterms:modified>
  <cp:revision>21</cp:revision>
  <dc:subject/>
  <dc:title>Reakcje zobojętniania</dc:title>
</cp:coreProperties>
</file>